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B9AB-4887-42F6-84B0-98183879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D54B-D075-4CC5-9A0B-73CD642C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5BC59-1118-48F4-9E49-8D69ECD3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91AF6-E613-40F9-A0E3-86E7EEF4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F1CFA-7956-4F31-8F31-368B1528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BDEEF-4225-4D62-AB48-6A14D153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A7DFA-B7E9-478D-BB7D-49181B2A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99B72-2499-42A5-A16B-F0017753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E3EDC-188B-4363-AC49-8EE81015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78311-67F8-46CD-9CDE-75518D6F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44608-8875-485B-8C16-5DC77E04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F11D3-9948-4F87-A04F-081A98BE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0286-ACA8-4F3D-9951-767C2AE9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DE8F6-2797-42C7-B879-7337F835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89BA2-015A-4B9B-B488-C67EFB45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EB12B-C258-4F39-A6F3-AFC282E9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FBA07-81A2-4EBC-8D98-A61FB2A6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4EF88-858A-45CE-AC32-6989ADEF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7DF72-B059-485F-BF08-47470879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73899-32EE-4131-A98D-9A241068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57ABD-AE2A-4430-9E01-B570F339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08D99-2D1E-472A-B000-D32844B6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D109E-F342-45A9-9296-9690FA4B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F82-91A0-4F86-8CFC-3839CF07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0D7CE-704B-419E-885A-B85AA583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F332E-9C0C-4639-A41E-07340318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A09E0-F9D6-470E-90AA-988A8BF6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E4EA6-8925-4837-BB7B-293EC0F8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2BF6B-B0FE-4D87-AC14-0C6D4A97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B5A02-3D4F-4BFA-81EE-AA69554A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7DD0B-0D14-4FD6-898E-8118B0E0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B7884-3B4E-484A-B7BE-0B80D798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54449-6894-4890-B6AB-8730DD4E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2E7DF-767D-44F8-9759-149544D0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333A-1948-4179-B866-D573238C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41E99-F034-41E1-8F81-C40CF176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0808D-5E17-4FC7-8FF4-E4B0AD94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7348D-A4CA-44EC-A8EE-238D79AE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D9CC1-FDCA-4F12-B8A0-794457AE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46AE8-4135-4D15-9D23-A77C2D47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BF68D-6BB4-4A9F-802D-9BEEA923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403AE-2F9B-4F22-A689-2FE062EF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543DA-3EDB-4FE6-9BA7-18220DED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E9CEA-CB63-412A-A57E-81C14A74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CF7AD-3503-4B11-8572-1A9637AC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0DD1-81B6-410D-8AF0-281AE4D6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70EC2-3CE8-4BC3-B337-18271BE9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7D11F-7CD4-4BD4-82F9-8401B832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1E136-4EB6-437F-A47E-80A48C74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429B6-91FE-4DA8-A787-0F5CC73F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5A863-A972-477B-AED9-93B7B18C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6453-BA97-4B27-8FA8-FA8439C3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D7DD-DFBD-4BDA-BC39-51ACC8AF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8EC3-2514-4B46-9936-E3CE1EE2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AB64-CE5F-42AC-89ED-C023C1F3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D91A-5D1D-4A8E-B06B-3EA81528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5AB-D597-4B8C-A717-F82FBA90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12AE-2FC7-4950-A297-EECE8616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B441-DA51-4FBD-B919-04009826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0F54-B290-4501-B3A0-BCAB00EC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3528-918A-42F1-8A01-E5343BFE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16EE-74DF-492B-A3AE-83B469B2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AEBCE-4D11-4A1D-838D-963E04FF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579D7-225F-4103-A54C-380495F1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E2A76-58DB-4AA7-9132-1F235223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4B0AC-E27E-412B-8612-947E9388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43E27-A3AE-440B-886F-C4176015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B60-69F2-46FE-9138-A1C014E1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0961A-160F-4A81-AE3E-235FB6DE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66CAC-1E8F-4191-8113-82C3B78F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C54C3-1776-4C9F-B265-6C867420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66BA0-5BC7-4DE0-B9D2-BE212DA0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A2274-586D-4D56-ABA2-224A1F9C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D6C80-EB46-4274-839B-5FAE968C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A1476-CF88-467C-92F0-884684B9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24756-9517-48BF-BE50-C883848B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099DD-DD2C-4246-A35B-868E33DB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98F32-7291-4A45-8443-46D7A6D9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6990-2090-40BC-B552-0DA1DDB9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39563-6D5D-4AE4-95EC-AF9DF13A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60EC6-D4EE-4A3B-A25F-96F8B68C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8BD5A-4F06-4105-AA91-BB4A1DC9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F2326-6EFA-46AA-8E2A-17D2D46F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4A25D-E966-4A21-BC4C-72F0F36F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EC73C-5B01-4296-901F-B84054D6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C5019-7A78-446D-BC4C-D6E25B31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27756-1C7B-4CE1-84A1-F6082132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22059-D37F-4506-BB09-18B26655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437C3-92AA-4E6E-875A-608ED648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069-8A71-405E-BBEE-60B2A8E8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66930-75AE-4224-A9E1-8A47C796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FE175-7213-413B-B22D-A2ECBF82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0945E-AC73-4DAA-808B-1003527B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DBD77-F33C-4644-9C61-82A678B9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0A018-67EA-4FE4-8771-F010C160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E270F-9409-4F26-B7FE-2A72B3AC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EDE6B-2939-4B6D-B4CE-A54077C7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87BAD-6B42-4492-AE8C-47EAB0DF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7C777-7B77-4CD4-B4C3-CDAFEC48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B4F26-697A-4139-A45B-3C6241C2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4052-B465-4C4A-AF8D-77512307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FC18A-1273-4ECB-AA91-04D2F9D2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464AD-8AF6-4092-9D5B-1B4499D8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47AEA-01E6-45D4-9CC3-757C3FBA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6BF9D-141F-4832-8635-B6726B34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9AC33-CDD2-417D-97F6-E2D515FC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4A8D2-1B20-46ED-B181-BB7E7310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90D44-78BD-41A8-8A6C-BA469CE9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1BC92-D1A6-4781-A7C0-AAFF78F1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9749F-C68F-47D3-800D-4F4393BF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FD0AF-0A32-4F23-AA1B-696DC8B5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882-E9B3-4334-8DAD-D737B946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F65FB-D549-4D40-9EB6-81448F64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62B11-0B8D-4F0D-BCA4-E9232B99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FFF99-8335-464A-9617-085D1C8D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6B1AB-FCDA-40DD-9D3F-DA9BCC12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A7B63-8068-4A93-B50E-C567ED90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389BC-BE45-4253-89C5-C89F3A3F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BA96C-2A1F-4EB7-9D31-0769D14C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3104E-52B9-408E-89BA-2C49EFE9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D2BD6-CD9C-4EFD-8C6D-31BD9B53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87F8E-A836-4E6B-99C1-E6FF4639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C27-F8A9-44C1-B092-B69EC446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F3D5F-05B7-4E5C-AD44-9EC86FDD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C7607-7CB1-43C1-BD3D-8D272CF8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11DAB-774E-4667-BD16-DED754C9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3D2AF-D172-4F98-A632-23DDFDD0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97B51-BEF9-454B-960C-284EBBB4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349B9-5F57-459E-B52E-BB7B2338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F417E-7949-4A15-8DD6-AFC253B3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3C446-B066-46D2-86AD-5C5D1B16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5CE34-D4D3-4F4B-AB17-9D94CDBF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308B7-C376-4BD3-8777-FE3818F5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9A94-C3DB-4A16-98B9-7BA4CA80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EECF0-F14B-4AAC-BABF-0A13B827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416A2-ED1D-4FB0-85E7-24169F44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598F0-30AD-41F3-AA31-2B24EDD8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A6A05-A8CE-4058-B066-2F337F43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1C3EC-726D-420B-988C-C0C3F47E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6B725-A4B9-404A-ACC5-1DFBE0BD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D0445-923B-4E96-80CD-88CF754B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4D949-DE6D-40AB-95C5-3D8A7FDF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9DE42-FE02-48BB-8211-D8A80D8D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6B9E2-8E27-4E14-8C73-A6622E2E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6FC8-6981-4E99-9D67-6E6C205A0E3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3E74-7A35-4579-9BC5-23B341F225F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BCCC-C72C-4001-B3FD-DBC0E85A771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ADD1-D849-4255-AF81-DA3ACB0848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26B0-C7FC-449C-9199-30BE63C1213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F53F-713F-473D-B043-6807863B72D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A661-8FDE-464C-8605-F676D744897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7DC0-0F06-4DB3-BF10-F6F032A0AA2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2079-8928-49D7-B7C3-1DFAFBCA60D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DC6B-2633-4158-BA86-5398D6FAB9A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F009-E239-453E-9617-F645F988C1F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31AB-20D3-4D73-B03C-9900B0D780A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51 To nemô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 mi nikto vzia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o nemôže mi nikto vzi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čo neochvejne verím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smieť večný život v Krist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 mať,</a:t>
            </a:r>
            <a:br>
              <a:rPr sz="47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o nad všetko si cením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a viem, že ho raz uvid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večne budem bývať s n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večne budem bývať s 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 to verím srdcom celým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ôj život je len krátky b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šak odmena je ist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už skoro vziať smi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d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 rúk Kráľa kráľov, Kris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en, ktorý za mňa zomrel raz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e pri mne stále, v každý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e pri mne stále, v každý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ňom bezpečný mám prístav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ôj Pane, ty ma vyveď s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o sveta márniv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ou úzkou cestou k výši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eď domov, do r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Svet tento tiež má mno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o kr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o potrvá len krátky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o potrvá len krátky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a túžim po večnost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7:10:08Z</dcterms:modified>
  <cp:revision>22</cp:revision>
  <dc:subject/>
  <dc:title>Je veľký náš Pán, on slávy je Kráľ Nech do všetkých strán  spev vrúcnych znie chvál.</dc:title>
</cp:coreProperties>
</file>